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A11-33A7-4E9E-898F-68D44C8C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CB2-9B8D-4C1B-841D-F73F898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748-569C-4AB4-9B6F-0FBF3EB0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26B-E48E-4D44-B2E0-5D8AB8B9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61B1-4260-4F38-AE70-5A4FF3E5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05F6-7EFA-4934-9DAF-FECFB66A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FC1F-E4AB-4626-A193-5B70220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310A-0AE1-4A75-A44D-001FBD8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392-A334-4BF3-9BB3-617C46CA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E481-76CA-4DDF-ABA9-9348349A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EE36-0700-4980-A565-6D4210E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2C3-7DC7-470B-AAF2-561D45C6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45D7-99A1-407A-B39B-B12B05C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048D-4BA6-418B-9245-0969C24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95E8-2C2B-4C20-8FE8-469F6EE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C633-3ECB-4468-B15C-C655BA0D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136-A339-4529-8187-3F05A7CE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08E-BB71-4178-9317-07C9E8D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E99-242C-40B5-998F-4BCCF6D2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EC3-80DE-45BF-B5E9-0E7F36A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C0D-7979-4D20-888C-368A39F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3C6-5CA0-492F-8646-C58FAC9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4A1-C8E7-4860-BD37-C45DC92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EC6-5162-4459-BDA4-1C52659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11D-D596-416A-BD51-16075E5D0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755-A29A-4AE1-8618-08CC0A9BA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Савремени приступ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управљања трошков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costing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по циљним трошкови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укупног трошка животног циклуса произ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атрибута произ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процеси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ланцу вред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Кајзен техн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– Activity Based Costing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развијен 80-тих год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стао је у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САД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вили су га Роберт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Капла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Робин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Купе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пређење и 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доградња традиционалних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нализе и обрачуна трош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ош увек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је нашао ширу примену у Срб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се заснива на следећи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тпоставк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би се произвео производ или пружила услуга неопходно је обавити следеће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бављање активности неопходно је утрошити одређене ресур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сти су основ за алокацију трошк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рочници потрошње ресурса и узрочници активности не морају бити везани за обим прода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брачун трошкова здравствених установа релевантна су места трошкова која учествују у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има, активност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грам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 за планирање и праћене трошкова у здравственим установама је подела места трошков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ма функциј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и се, према функцијама, у здравственим установама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а трошкова пружања здравствених усл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а места трош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ста трошкова пружања здравствених услуг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, према функцији у процесу медицинских поступака,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а трошкова главне делат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 пример: клинике или одељења) који могу да стварају при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а трошкова споредне делат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 пример: лабораторија или радиологија) који пружају дијагностичке поступке за пацијенте који се налазе смештени на места трошкова главне дела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Фазе имплементације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BC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</a:rPr>
              <a:t>мет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дентификација производа/услуга/корисника који су носиоци трошко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главних активности и база, односно фактора трошења по тим активности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директних трошкова производа/услу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индиректних трошкова пружања услуга (општих трошкова) по појединим активности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окација индиректних трошкова пружања услуга на носиоце трошкова утврђених фактора трошењ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индиректних трошкова пружања услуге по јединици производа/услуга/корис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укупних и једничних трошкова поједин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а/услуга/кори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447920"/>
          <a:ext cx="8229600" cy="5317920"/>
        </p:xfrm>
        <a:graphic>
          <a:graphicData uri="http://schemas.openxmlformats.org/drawingml/2006/table">
            <a:tbl>
              <a:tblPr/>
              <a:tblGrid>
                <a:gridCol w="3352680"/>
                <a:gridCol w="1067040"/>
                <a:gridCol w="914400"/>
                <a:gridCol w="1143000"/>
                <a:gridCol w="990360"/>
                <a:gridCol w="762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љеви увођ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гле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нцу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ч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ње у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ак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акшати избор пацијент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ити чек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ње квалитета услу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една рсподела између географских подручја и самих уст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ћа транспарентност финанс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иће тро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и услови за приватне и јавне уста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ље управљање  документ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оставити везу између активности и усл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јем 20. века развија с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-Driven Activity Based Costing (TDAB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дносно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обрачун трошкова према активностима заснован на времен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D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је варијан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тоде развијена да поједностави имплементацију и одржавање управљачког рачуновод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D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метода користи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квантитативне факторе трошења базиране на активностима ресурс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ји се користе у пружању здравствених усл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6:26:52Z</dcterms:modified>
  <cp:revision>180</cp:revision>
  <dc:subject/>
  <dc:title>Soft and Hard Skills Development: A Current Situation in Serbian Companies</dc:title>
</cp:coreProperties>
</file>